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2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7.png" ContentType="image/png"/>
  <Override PartName="/ppt/media/image32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42.jpeg" ContentType="image/jpeg"/>
  <Override PartName="/ppt/media/image14.png" ContentType="image/png"/>
  <Override PartName="/ppt/media/image30.jpeg" ContentType="image/jpeg"/>
  <Override PartName="/ppt/media/image3.jpeg" ContentType="image/jpe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13.png" ContentType="image/png"/>
  <Override PartName="/ppt/media/image1.jpeg" ContentType="image/jpeg"/>
  <Override PartName="/ppt/media/image10.png" ContentType="image/png"/>
  <Override PartName="/ppt/media/image4.png" ContentType="image/png"/>
  <Override PartName="/ppt/media/image34.gif" ContentType="image/gif"/>
  <Override PartName="/ppt/media/image27.png" ContentType="image/png"/>
  <Override PartName="/ppt/media/image16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00E-F5F0-4E10-9636-3067DF22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84E-CA47-4F4A-A451-563D690F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59C-3D83-40C8-871D-51226901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1ED-FB95-46E2-A713-FAD0CE05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6218-301E-4C14-A7B5-76D4A865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209A-3C37-493A-8AC4-B2C2E318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B529-2082-483F-BBCC-F209C9F4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1D57-0DEA-4DFA-ACEF-3B026617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D642-17F4-48D6-8CE2-8A70ECC4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164A-DCA5-4659-B8F2-F1D185C3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283B-79D9-4E8E-840C-8BAC5A5F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E01-EE9A-407E-A542-965201B5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C763-5F31-41F3-AC09-10E76AB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1CD8-578C-40D5-B072-70FBBA00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D4D9-9D41-4122-9344-15DACBCB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E82F-A22C-4675-A614-383D62D8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0813-2E38-40EB-BD99-5D7304B1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646-0884-4B08-9F36-0496FF21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4C2-0321-4716-8069-C62D4F19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3A9-571A-452A-88C0-6117C477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AE6-D16F-403D-BFC5-0067C146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1DA-9252-49B2-90D3-5B99CF9F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6C0-705E-418B-AF71-41CFD30B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8B6-4895-4A16-AE16-4C9867E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6411-7DE9-4F01-BEA1-573C0762B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F8CB-A518-4A87-8D3C-B3A2F5834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303640" y="405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9528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1aec"/>
                </a:solidFill>
                <a:latin typeface="Times New Roman"/>
              </a:rPr>
              <a:t>Chemical </a:t>
            </a:r>
            <a:br>
              <a:rPr sz="8000"/>
            </a:br>
            <a:r>
              <a:rPr b="1" lang="en-US" sz="8000" spc="-1" strike="noStrike">
                <a:solidFill>
                  <a:srgbClr val="401aec"/>
                </a:solidFill>
                <a:latin typeface="Times New Roman"/>
              </a:rPr>
              <a:t>  Reac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_x000e_oxid_red_1.jpg                                                 00000018_x0007_NO NAME                        8EF45680:"/>
          <p:cNvPicPr/>
          <p:nvPr/>
        </p:nvPicPr>
        <p:blipFill>
          <a:blip r:embed="rId1"/>
          <a:stretch/>
        </p:blipFill>
        <p:spPr>
          <a:xfrm>
            <a:off x="3230640" y="3276720"/>
            <a:ext cx="5913360" cy="297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_x0018_reaction_intro_1_240.jpg                                       00000017_x0007_NO NAME                        8EF45680:"/>
          <p:cNvPicPr/>
          <p:nvPr/>
        </p:nvPicPr>
        <p:blipFill>
          <a:blip r:embed="rId2"/>
          <a:stretch/>
        </p:blipFill>
        <p:spPr>
          <a:xfrm>
            <a:off x="0" y="3352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_x0008_images 3                                                       00000017_x0007_NO NAME                        8EF45680:"/>
          <p:cNvPicPr/>
          <p:nvPr/>
        </p:nvPicPr>
        <p:blipFill>
          <a:blip r:embed="rId3"/>
          <a:stretch/>
        </p:blipFill>
        <p:spPr>
          <a:xfrm>
            <a:off x="6324480" y="762120"/>
            <a:ext cx="23529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28600" y="228600"/>
            <a:ext cx="8534520" cy="33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g 2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is is how many molecules you have.  You will learn how to figure out how many of each molecule you need in a chemical reaction later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making water, you start with 2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on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make 2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learn how to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quations this week,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_x0018_reaction_intro_1_240.jpg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2666880" y="35053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4038480" cy="336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80880" y="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bonds are VERY important in chemical reactions.  The valence electrons dictate the kinds of reactions that can and will happen.  You must be comfortable using them.  If you ar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please come for extra tuto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124440" cy="2595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2209680" y="4394160"/>
            <a:ext cx="2997360" cy="246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553080" y="480060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s creating covalent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480060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s creating sing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276720" y="182880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s forming ionic com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289512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69343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600200" y="5715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eight different types of re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u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/Base (neutralization rea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495680" y="51055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come up with possible meanings for each?  Think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r more elements combine to form one 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+ Oxy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_x000b_SYNTHES.GIF          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990720" y="4876920"/>
            <a:ext cx="3962160" cy="162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7137360" y="3886200"/>
            <a:ext cx="1778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 Rea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pound breakdowns into two or more sub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xygen + 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_x0008_images 9                                                       00000018_x0007_NO NAME                        8EF45680:"/>
          <p:cNvPicPr/>
          <p:nvPr/>
        </p:nvPicPr>
        <p:blipFill>
          <a:blip r:embed="rId1"/>
          <a:stretch/>
        </p:blipFill>
        <p:spPr>
          <a:xfrm>
            <a:off x="6248520" y="2666880"/>
            <a:ext cx="2590560" cy="232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523880" y="4070520"/>
            <a:ext cx="3797280" cy="2787480"/>
          </a:xfrm>
          <a:prstGeom prst="rect">
            <a:avLst/>
          </a:prstGeom>
          <a:ln w="0">
            <a:noFill/>
          </a:ln>
        </p:spPr>
      </p:pic>
      <p:sp>
        <p:nvSpPr>
          <p:cNvPr id="144" name="Line 6"/>
          <p:cNvSpPr/>
          <p:nvPr/>
        </p:nvSpPr>
        <p:spPr>
          <a:xfrm>
            <a:off x="304812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Replacement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5864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element trades places with another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single 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+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C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sium + Hydrochloric Aci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gnesium Chloride +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Mg + 2HC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MgCl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_x000c_1REPLACE.GIF         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5270400" y="3794040"/>
            <a:ext cx="3873600" cy="3063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_x0008_brxn.jpg                                                       00000018_x0007_NO NAME                        8EF45680:"/>
          <p:cNvPicPr/>
          <p:nvPr/>
        </p:nvPicPr>
        <p:blipFill>
          <a:blip r:embed="rId2"/>
          <a:stretch/>
        </p:blipFill>
        <p:spPr>
          <a:xfrm>
            <a:off x="609480" y="4206960"/>
            <a:ext cx="30481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Replacement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ions of the same charge switch places with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alled double displacement re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 + CD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C + B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KCl + Ag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assium chloride + silver nitr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lver chloride + potassium n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&#10;DBLREP.GIF           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457200" y="4267080"/>
            <a:ext cx="490392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_x0008_images 6                                                       00000018_x0007_NO NAME                        8EF45680:"/>
          <p:cNvPicPr/>
          <p:nvPr/>
        </p:nvPicPr>
        <p:blipFill>
          <a:blip r:embed="rId2"/>
          <a:stretch/>
        </p:blipFill>
        <p:spPr>
          <a:xfrm>
            <a:off x="7010280" y="4267080"/>
            <a:ext cx="163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5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tance reacts with oxygen rapidly to form one or more ox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losion or fir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ane + oxyg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rbon dioxide +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&#13;mgburnpic.JPG                                                  00000018_x0007_NO NAME                        8EF45680:"/>
          <p:cNvPicPr/>
          <p:nvPr/>
        </p:nvPicPr>
        <p:blipFill>
          <a:blip r:embed="rId1"/>
          <a:stretch/>
        </p:blipFill>
        <p:spPr>
          <a:xfrm>
            <a:off x="5943600" y="4449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_x0008_images 8                                                       00000018_x0007_NO NAME                        8EF45680:"/>
          <p:cNvPicPr/>
          <p:nvPr/>
        </p:nvPicPr>
        <p:blipFill>
          <a:blip r:embed="rId2"/>
          <a:stretch/>
        </p:blipFill>
        <p:spPr>
          <a:xfrm>
            <a:off x="609480" y="4724280"/>
            <a:ext cx="2514600" cy="1623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4038480" y="4343400"/>
            <a:ext cx="1341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tralization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an acid and a base. Water and a salt (solid) are always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Cl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hloric acid + sodium hydroxid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dium chloride +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_x0015_acidbase_reaction.gif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2514600" y="4406760"/>
            <a:ext cx="4267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library.thinkquest.org/C006669/media/Chem/img/redox.gif"/>
          <p:cNvPicPr/>
          <p:nvPr/>
        </p:nvPicPr>
        <p:blipFill>
          <a:blip r:embed="rId1"/>
          <a:stretch/>
        </p:blipFill>
        <p:spPr>
          <a:xfrm>
            <a:off x="1447920" y="1808280"/>
            <a:ext cx="57862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380880" y="4114800"/>
            <a:ext cx="838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x, or reduction-oxidation, reactions are typically also single or double replacement reactions.  They involve a change in the oxidation number of an element in the reaction, and typically involve transition metals and/or nonmetals (though not alw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need to be able to IDENTIFY redox reactions, but not balanc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2057400" y="304920"/>
            <a:ext cx="515304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he Octet Ru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04920" y="1676520"/>
            <a:ext cx="8381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tom needs 8 electrons in the valence shell to be 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atom does not have 8 valence electrons, it will either get rid of electrons or gain electrons to make 8, or it will share its electrons with another atom to make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only happen when atoms are close enough together to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32" descr="http://withfriendship.com/images/g/33433/Octet-rule-picture.gif"/>
          <p:cNvPicPr/>
          <p:nvPr/>
        </p:nvPicPr>
        <p:blipFill>
          <a:blip r:embed="rId1"/>
          <a:stretch/>
        </p:blipFill>
        <p:spPr>
          <a:xfrm>
            <a:off x="14479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You can</a:t>
            </a:r>
            <a:r>
              <a:rPr b="0" lang="ja-JP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t have one… without the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(gaining electrons) ca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happen without an oxidation to provide the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have 2 oxidations or 2 reductions in the same equation.  Reduction has to occur at the cost of o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219320" y="3048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lion says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09680" y="3581280"/>
            <a:ext cx="304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514600" y="3581280"/>
            <a:ext cx="3049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819520" y="3581280"/>
            <a:ext cx="228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791320" y="3581280"/>
            <a:ext cx="228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095880" y="3581280"/>
            <a:ext cx="3049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400800" y="3581280"/>
            <a:ext cx="228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1" descr="MPPH02097J0000[1]"/>
          <p:cNvPicPr/>
          <p:nvPr/>
        </p:nvPicPr>
        <p:blipFill>
          <a:blip r:embed="rId1"/>
          <a:stretch/>
        </p:blipFill>
        <p:spPr>
          <a:xfrm>
            <a:off x="3200400" y="4648320"/>
            <a:ext cx="2743200" cy="180972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2"/>
          <p:cNvSpPr/>
          <p:nvPr/>
        </p:nvSpPr>
        <p:spPr>
          <a:xfrm flipH="1">
            <a:off x="913680" y="5638680"/>
            <a:ext cx="1600200" cy="762120"/>
          </a:xfrm>
          <a:prstGeom prst="wedgeRoundRectCallout">
            <a:avLst>
              <a:gd name="adj1" fmla="val -108138"/>
              <a:gd name="adj2" fmla="val 13958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066680" y="5715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923760"/>
            <a:ext cx="7010280" cy="592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7010280" y="1066680"/>
            <a:ext cx="213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 reactions are also other types of reactions.  To determine if your reaction is a PPT reaction, look at the chart on the next page.  If the ions in your product are insoluble, then you have a PPT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bility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864" descr="solubility"/>
          <p:cNvPicPr/>
          <p:nvPr/>
        </p:nvPicPr>
        <p:blipFill>
          <a:blip r:embed="rId1"/>
          <a:stretch/>
        </p:blipFill>
        <p:spPr>
          <a:xfrm>
            <a:off x="228600" y="1455840"/>
            <a:ext cx="86076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Re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a +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N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Mg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Mg + 2HCl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MgCl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693800" cy="2361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6477120" y="4038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(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ydrogen Perox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s in front of the Hydrogen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fficients.  Coeffici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us how much of an atom or molecule is present without changing the formula.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 a subscript to any formula. You will change the formula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_x0008_images 5                                                       00000017_x0007_NO NAME                        8EF45680:"/>
          <p:cNvPicPr/>
          <p:nvPr/>
        </p:nvPicPr>
        <p:blipFill>
          <a:blip r:embed="rId1"/>
          <a:stretch/>
        </p:blipFill>
        <p:spPr>
          <a:xfrm>
            <a:off x="6477120" y="1219320"/>
            <a:ext cx="2209680" cy="1649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_x000b_15-0969.jpg                                                    00000018_x0007_NO NAME                        8EF45680:"/>
          <p:cNvPicPr/>
          <p:nvPr/>
        </p:nvPicPr>
        <p:blipFill>
          <a:blip r:embed="rId2"/>
          <a:stretch/>
        </p:blipFill>
        <p:spPr>
          <a:xfrm>
            <a:off x="457200" y="33526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6146640" y="2743200"/>
            <a:ext cx="29973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balance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1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e equation out without coefficients. Make sure the formulas are written corre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unt the oxygen. There are two on the left side, and one on the right. Add a coefficient of two to the water to make the oxygens even, do not add any subscrip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balance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unt the hydrogen. There are 4 on the right.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2*2=4) and 2 on the left. Write a 2 in front of the hydrogen on the r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heck your work. All elements should have the same number of atoms on both sides. If not, check your work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O?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380880" y="533520"/>
            <a:ext cx="838224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alk through i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arbon hexahydride + oxyg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bon dioxide +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) Write the formulas correct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Figure out how many of each element you have on each side of the re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 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 Notice I kept the poly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   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 together? 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304920"/>
            <a:ext cx="86104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) Balance the hydro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 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   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balanced, so leave them for now.  Balance the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) Place any changes into your reaction (whatever you multiply by becomes the new coefficient), and apply to other elements within the compound aff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3 = 6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026"/>
          <p:cNvSpPr txBox="1"/>
          <p:nvPr/>
        </p:nvSpPr>
        <p:spPr>
          <a:xfrm>
            <a:off x="533520" y="146160"/>
            <a:ext cx="800100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ree Types of Compoun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1" name="Text Box 1027"/>
          <p:cNvSpPr/>
          <p:nvPr/>
        </p:nvSpPr>
        <p:spPr>
          <a:xfrm>
            <a:off x="457200" y="1974960"/>
            <a:ext cx="48769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med when one atom transfers an electron to another atom, and then the two atom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rges are attracted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alent Com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med when two or more atoms share valence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allic Com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med when the positive nucleus of metal atoms line up and the electrons swirl around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http://www.geo.arizona.edu/xtal/nats101/9_4.jpg"/>
          <p:cNvPicPr/>
          <p:nvPr/>
        </p:nvPicPr>
        <p:blipFill>
          <a:blip r:embed="rId3"/>
          <a:stretch/>
        </p:blipFill>
        <p:spPr>
          <a:xfrm>
            <a:off x="5946840" y="5010120"/>
            <a:ext cx="3047760" cy="184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upload.wikimedia.org/wikipedia/commons/thumb/1/17/Covalent.svg/200px-Covalent.svg.png"/>
          <p:cNvPicPr/>
          <p:nvPr/>
        </p:nvPicPr>
        <p:blipFill>
          <a:blip r:embed="rId4"/>
          <a:stretch/>
        </p:blipFill>
        <p:spPr>
          <a:xfrm>
            <a:off x="7081920" y="2795760"/>
            <a:ext cx="1904760" cy="22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http://www.docbrown.info/page04/4_72bond/Image546.gif"/>
          <p:cNvPicPr/>
          <p:nvPr/>
        </p:nvPicPr>
        <p:blipFill>
          <a:blip r:embed="rId5"/>
          <a:stretch/>
        </p:blipFill>
        <p:spPr>
          <a:xfrm>
            <a:off x="5178600" y="1855800"/>
            <a:ext cx="1947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0" y="0"/>
            <a:ext cx="9144000" cy="69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) Now rebalance your hydro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3 = 6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x 3 = 3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) Balance the 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3 = 6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x 3 = 3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1 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) Check to make sure all your elements have the same numbers on wi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2F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 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6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   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Practice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+     NaBr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aCl    +      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     +    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F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+    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+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     +     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C   +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    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S for balancing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this an easier process try doing it in this or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Balance the metals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Balance all non metal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 and H (unless H is eas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Balance the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Balance the hydro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make sure the formulas are writte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6"/>
          <p:cNvSpPr/>
          <p:nvPr/>
        </p:nvSpPr>
        <p:spPr>
          <a:xfrm>
            <a:off x="1447920" y="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extile"/>
              </a:rPr>
              <a:t>Polarity &amp; Sha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257800" y="37476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28600" y="374760"/>
            <a:ext cx="469908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4210200"/>
            <a:ext cx="2971800" cy="2641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5791320" y="3930480"/>
            <a:ext cx="3352680" cy="292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2895480" y="4260960"/>
            <a:ext cx="27687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0" y="3505320"/>
          <a:ext cx="28875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5320"/>
                    <a:ext cx="28875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5"/>
          <p:cNvGraphicFramePr/>
          <p:nvPr/>
        </p:nvGraphicFramePr>
        <p:xfrm>
          <a:off x="3048120" y="5105520"/>
          <a:ext cx="1752480" cy="175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105520"/>
                    <a:ext cx="17524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6"/>
          <p:cNvGraphicFramePr/>
          <p:nvPr/>
        </p:nvGraphicFramePr>
        <p:xfrm>
          <a:off x="4952880" y="5029200"/>
          <a:ext cx="1828800" cy="1828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502920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7" descr=""/>
          <p:cNvPicPr/>
          <p:nvPr/>
        </p:nvPicPr>
        <p:blipFill>
          <a:blip r:embed="rId7"/>
          <a:stretch/>
        </p:blipFill>
        <p:spPr>
          <a:xfrm>
            <a:off x="6904080" y="396252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4 ways to identify a chem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419720" y="1371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name for a chemical chang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mical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286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28600" y="1371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28600" y="1905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a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28600" y="2514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4474496" presetSubtype="394469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4474496" presetSubtype="394466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1024"/>
          <p:cNvGraphicFramePr/>
          <p:nvPr/>
        </p:nvGraphicFramePr>
        <p:xfrm>
          <a:off x="5867280" y="4572000"/>
          <a:ext cx="3124440" cy="21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72000"/>
                    <a:ext cx="3124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3"/>
          <p:cNvSpPr/>
          <p:nvPr/>
        </p:nvSpPr>
        <p:spPr>
          <a:xfrm>
            <a:off x="0" y="14400"/>
            <a:ext cx="8381880" cy="68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n its simplest terms, a chemical reaction is a chemical change.  Basically, this means that the starting chemicals change into something n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Law of Conservation…you cannot change the total number of electrons, protons, and neutrons in a standard chemical reaction.  You can only rearrang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emical reaction is the rearrangement of atoms and their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icture, the liquid on the left is silver nitrate (clear) and the wire is copper.  As the reaction continues, the solution changes color, indicating a chemical change. 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 is the silver chang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laces with the copper, forming cop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itrate (blue) and silver (on the wi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This is an example of one of the 5 type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s you will be learning about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7997696" presetSubtype="3944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s of Chemical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ur + Water+ Egg+ Yeast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s                 yield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starting chemicals in a chemic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new chemicals made in a chemical reaction. (For our purposes for now, the arrow faces the products, which are usually on the right of a rea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C + 11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emical properties of the reactants changed when they are comb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28600" y="11160"/>
            <a:ext cx="8686800" cy="72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about math…what does an equation in math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like this: a + b = c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stry is very similar.  The equations look a little different, but amount to the same thing. 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means to add or combine the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asically the same as =, but means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bine to becom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ubset and is the number of atoms in the  molecule, in this case, there are 2 Hs and 2 Os to start with, and 2 Hs in the e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, no subset number me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one of that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e 2 (big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5:15:20Z</dcterms:created>
  <dc:creator>Rebekah Marchilena</dc:creator>
  <dc:description/>
  <dc:language>en-US</dc:language>
  <cp:lastModifiedBy>IT</cp:lastModifiedBy>
  <dcterms:modified xsi:type="dcterms:W3CDTF">2015-02-25T21:04:06Z</dcterms:modified>
  <cp:revision>125</cp:revision>
  <dc:subject/>
  <dc:title>Chemical    Reactions</dc:title>
</cp:coreProperties>
</file>